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F92-5B02-4378-ABBE-78AEF1AA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DB4-FE85-4AED-A491-B7E1457C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979-F4EC-43AE-B88D-6EDD9F79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26F-DD4A-4644-A889-98CCFDEC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306-E7BA-4579-A394-88EB407B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F484-F667-4CE2-889B-220916AF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530-41E8-4803-825A-1E4940BF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2A96-FF9C-4585-BE87-BEAC58F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2379-E19D-4F8A-8603-9B72B02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97C9-FBC5-4351-92CE-E4251571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85A9-2FDD-4AE7-8B4B-6639A45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0C0-F579-43E7-8E11-EACA7FB3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DC9-F277-4BF0-9F38-7E7B071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E4A5-A85C-49DE-9CD5-74589A8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5CA2-8588-41FA-83FE-D12612C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A5F2-79C6-460B-B0BC-D6CAB20D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4528-B57D-4AB6-9CFA-E3C2C5F1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946-4E04-49BE-B42F-15F6C44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879-EF7D-4082-85F1-41B67A0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1F0-5CFA-4336-9C85-E430B7BE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F46-77BE-4F15-965C-E2F246E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170-8A2F-47D7-801C-0EFACAC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2E4-3231-4258-80C4-C355B94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30D-C811-417E-9937-6BAD221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3675-5AAF-48F3-AE2D-0B590F94F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84A-D63E-413B-864D-A419E820E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Script MT Bold"/>
              </a:rPr>
              <a:t>Ecuado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By Cheyenne and Aar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00"/>
                </a:solidFill>
                <a:latin typeface="Script MT Bold"/>
              </a:rPr>
              <a:t>Cultu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9360">
            <a:solidFill>
              <a:srgbClr val="b76a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n -  95 %  Roman Catholic, population- 14,573,1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ficial language- Spanis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 – all hand made art. Paintings, weaves, necklaces, clothes – coats gloves, caps, scarf’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14600" y="3049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ultu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nce- The dance is a folk dance.  When you come to Ecuador you are greeted by dancing like in Hawaii. And your sure to have a good time and f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thing – Men wear blue poncho or fedora or felt hat and white calf  length kickers. Women wear inane dr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458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ultur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– fruits, high quality fish and seafood, countless varieties of adean potatoes. Lemon marinated shrimp, toasted corn, pastries stuffed with spiced meats, Roasted cuy (guinea pig)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ktails a long with liquor. Fruit juices, coffee, coca cola, sprite, fanta. Naranjilla, pina, naranja, guanabana, mora. Beer – pilsener, club. Corn drink. Aguardiente, Anisados, Secons, brandy, rum, wines, manioc, caneli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4:50:31Z</dcterms:created>
  <dc:creator>teacher</dc:creator>
  <dc:description/>
  <dc:language>en-US</dc:language>
  <cp:lastModifiedBy>teacher</cp:lastModifiedBy>
  <dcterms:modified xsi:type="dcterms:W3CDTF">2010-05-07T15:12:26Z</dcterms:modified>
  <cp:revision>4</cp:revision>
  <dc:subject/>
  <dc:title>Ecuador</dc:title>
</cp:coreProperties>
</file>